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DCEE-5786-4F2C-8AC5-BFE395D6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09EE-5F9D-4EA6-98B7-15CF1A00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410F-1799-4D12-B6FE-7D50CD3BB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E606-4617-48CF-A97C-1DC8BA83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9275-B086-4EC2-91E2-D2F0AE407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EE61-0187-4888-BCC2-0FD5DC95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0AAE-BC59-4ADE-BC7B-8519C0F7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0E48-DA9F-4412-9136-AA76340E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B611-7C5C-43A7-AF2D-C6FD4248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2B98-74EB-466C-84B1-00CE6C0A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70EE-10AF-4F2F-BB6F-06B50DA7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D122-6ADF-4DC4-A4A3-B4377560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B74E-B467-4CA6-920A-D4ED3CB0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9171-3F15-4BFE-A6D4-53AAC9C2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36C2-05A4-43B1-99D7-83C1BD23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E025-A24D-4132-99E6-78BE5689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7553-7350-42F5-BD0B-8E149EEB2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2043-D3FD-494A-B254-99C9F8E4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1796-927C-44F2-8A1E-28AE6DD5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EE15-F9C7-426B-AFF7-27C92DC9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08FD-0808-4420-BADC-BE37CE41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2470-90C6-4321-B214-D397C447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D9BA-C677-4BF2-BB33-050B7DAF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DF9F-124B-4608-9842-94B0A690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B5EE-A14D-4AE8-82CF-96C0BFFA82B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57C8-8087-41F6-B0E1-7B09D861B80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82160" y="1066680"/>
            <a:ext cx="549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Lesson Ninetee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2880" y="2743200"/>
            <a:ext cx="308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Sold Ou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62160" y="219240"/>
            <a:ext cx="89514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Ques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Were you at a theatre or a cinem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. Did you think the play was soon going to begi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.Who was with you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. She thought thr play might have begun already, didn’t sh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. What did you do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 How mane tickets did you ask for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. Did the girl at the ticket office have any left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. What did she sa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9. Was Susan disappoin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0. Who hurried to the ticket office just then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1. What did he want to retur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2. Did the girl accept the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-14400" y="196920"/>
            <a:ext cx="9109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ell the sto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play– begin—any moment’—sa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. ‘may have begun’—Sus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. Hurried—ticket office—’ticket?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4. ‘sorry—sold out,’—gir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5. Just then–-hurried—ticket offi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6. ‘return—tickets’—asked. ‘certainly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7. Back—at once. ‘Could—those two?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8. “Certaily’—’next Wednesday’s—wa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m?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9. ‘might as well’--sad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72600" y="73080"/>
            <a:ext cx="87274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Key to summary writ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The play was going to begin at an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moment.I Asked for two tickets. Ther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were none left. Susan and I wer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disappointed. Just then, a man hurried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to the ticket office. He returned two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tickets. They were for nex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Wednesday’s performance. I bough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the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77520" y="295200"/>
            <a:ext cx="5116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Word stu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ell out (=sell completely)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售空，卖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th be sold out,  sell out s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这本新书卖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二手唱片都已卖完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们卖完了所有的报纸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3640" y="1971720"/>
            <a:ext cx="39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This new book is sold ou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0320" y="2886120"/>
            <a:ext cx="567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The second- hand records are sold ou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6640" y="3952800"/>
            <a:ext cx="465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We sold out all the news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5960" y="4334040"/>
            <a:ext cx="8439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y/might as well“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还是…的确好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不妨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还是跟我一起走的好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 No one will eat this food; ________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还是把它扔掉的好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1760" y="5172120"/>
            <a:ext cx="46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ou may/might come with 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80560" y="5629320"/>
            <a:ext cx="463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t may/might be as well thr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8T01:08:28Z</dcterms:created>
  <dc:creator/>
  <dc:description/>
  <dc:language>en-US</dc:language>
  <cp:lastModifiedBy>st</cp:lastModifiedBy>
  <dcterms:modified xsi:type="dcterms:W3CDTF">2002-07-10T01:22:21Z</dcterms:modified>
  <cp:revision>2</cp:revision>
  <dc:subject/>
  <dc:title>PowerPoint 演示文稿</dc:title>
</cp:coreProperties>
</file>